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7CA-DF44-49C5-A604-DCBA4C51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87F-2568-4F44-A609-F719BAE7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D97-7103-43BA-AF87-040A3D37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1B0-9A21-4F5E-93C3-E9A3AE68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A2F9-5EDC-496B-BB7E-6D2107F4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5816-0DD0-478A-A615-328A1A52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4E24-6889-4381-A9E1-B29B1E7D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6AE-29B3-48D5-94C6-DCB17E17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31B8-F6FA-4EA6-815C-5AA548E2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3D76-996D-4AB1-A2CB-C4B1265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C34E-803B-4995-B714-6D87EF9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CF3-A409-4513-AB5D-AADF5F8A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5D1C-A926-483D-AAE5-54C09810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7C8-4867-4D23-839B-F69462B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94F5-EAE1-4A33-A240-1BA1D1E2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9BC-5BE5-41D7-86D1-A420056E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1886-BC37-44C0-900E-DE18440D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0FD-4EB8-4B4D-BA5B-B958E05D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820-B52D-46F0-9C24-832061F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671-115F-4E41-A9E4-35BDE007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B31-0418-49B8-ACDE-D1A6A28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78E-6BA3-4B9C-8D45-1ADA01C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1A0-8ED9-45A7-A89B-0A2E56EB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2D6-6FEF-4468-8E63-C06E7EA8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81B-6DC8-48BC-A187-323B02180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E85-5246-4D19-BA77-3BED6DD133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Remnant Shall Retur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8, Lesson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95-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zra 7-10; Neh. 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1676520"/>
            <a:ext cx="13716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90920" y="1600200"/>
            <a:ext cx="24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 Are Here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029200" y="1752480"/>
            <a:ext cx="38088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zra Restores the Wor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ra the Priest – Ezra 7:1-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s to the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eneration of the priestly line of Aaron –v.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versed in the law of Moses –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and supported by King Artaxerxes of Persia – 11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zra Prepares to Depart for Jerusal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families returning to Jerusalem – 8:1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sence of Levites – 8:15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taining of Levites – 8:18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ra calls for prayer and fasting -21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d transportation of temple items – 24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 at Jerusalem – 8:31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and record of temple items -8:33-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zra Confronts The Problem of Mixed Marria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ain Over The Transgressions -9: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ssing the sin of unfaithfulness – 9:5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ntance and Confession of the People – 10:1-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 – the cry for forgiveness 10: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lve to separate from pagan wives – 10:3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rd of the Guilty Leaders -10:13-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ehemiah Rebuilds the Walls of Jerusal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ess and prayer of Nehemiah – Neh.1: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about the wall – 1: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enting over the wall – 1:4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hemiah Goes To Jerusalem – 2: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tition to the king – 2: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mission from the king – 2: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Rise Up And Build”- 2:11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zation For Buil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Family is Assigned a Portion of the Wall – 3:1-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Gates Surround The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9:39:09Z</dcterms:created>
  <dc:creator>Terry W. Benton</dc:creator>
  <dc:description/>
  <dc:language>en-US</dc:language>
  <cp:lastModifiedBy>Frank D Vines</cp:lastModifiedBy>
  <dcterms:modified xsi:type="dcterms:W3CDTF">2006-05-24T21:54:20Z</dcterms:modified>
  <cp:revision>4</cp:revision>
  <dc:subject/>
  <dc:title>A Remnant Shall Return</dc:title>
</cp:coreProperties>
</file>